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8280400" cy="4140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2473-CB6B-4EE5-9DF2-853E1A8DA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714060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9520" y="2474280"/>
            <a:ext cx="714060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E42D-2066-451F-988C-3A07921F5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9520" y="247428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28560" y="247428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79FA-AB74-4C24-B788-E65B85086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3680" y="110160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98200" y="110160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9520" y="247428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3680" y="247428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98200" y="247428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7BDF-1F0E-4423-A379-62F6474D1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9520" y="1101600"/>
            <a:ext cx="714060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F839-334D-43C0-A9BF-FD03BCCEF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714060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631C-1711-4FE6-9CC7-9593E29AB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7CA2-CA17-4F20-BC86-CA6A40ED8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6A38-902E-4958-8732-DF4DC49A6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69520" y="220680"/>
            <a:ext cx="7140600" cy="370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F1BD-8B7A-436A-873F-3346837AF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9520" y="247428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F56F-158F-40D7-A006-9DC3EFD1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28560" y="247428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9406-D932-436A-AE20-3F9C466B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9520" y="2474280"/>
            <a:ext cx="714060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9952-89C7-45E0-A366-F1366B5C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9520" y="1101600"/>
            <a:ext cx="714060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644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12920" indent="-136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68904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96516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24128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5" marL="124128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6" marL="124128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9520" y="3836520"/>
            <a:ext cx="186228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en-US" sz="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7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2840" y="3836520"/>
            <a:ext cx="279396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847840" y="3836520"/>
            <a:ext cx="186228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en-US" sz="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CB0CEF70-6BA5-4862-9A7B-968F84B1DFEF}" type="slidenum">
              <a:rPr b="0" lang="en-US" sz="7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-1511280" y="-801720"/>
            <a:ext cx="10234440" cy="23274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1604880" y="1785960"/>
            <a:ext cx="507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000" spc="-1" strike="noStrike">
                <a:solidFill>
                  <a:srgbClr val="1f4e79"/>
                </a:solidFill>
                <a:latin typeface="Calibri"/>
              </a:rPr>
              <a:t>Davet Met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2"/>
          <a:stretch/>
        </p:blipFill>
        <p:spPr>
          <a:xfrm>
            <a:off x="3730680" y="604800"/>
            <a:ext cx="823680" cy="824040"/>
          </a:xfrm>
          <a:prstGeom prst="rect">
            <a:avLst/>
          </a:prstGeom>
          <a:ln w="0">
            <a:noFill/>
          </a:ln>
        </p:spPr>
      </p:pic>
      <p:sp>
        <p:nvSpPr>
          <p:cNvPr id="44" name="TextBox 6"/>
          <p:cNvSpPr/>
          <p:nvPr/>
        </p:nvSpPr>
        <p:spPr>
          <a:xfrm>
            <a:off x="1604880" y="2998800"/>
            <a:ext cx="507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600" spc="-1" strike="noStrike">
                <a:solidFill>
                  <a:srgbClr val="1f4e79"/>
                </a:solidFill>
                <a:latin typeface="Calibri"/>
              </a:rPr>
              <a:t>İmz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0" y="3857760"/>
            <a:ext cx="8294760" cy="28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8"/>
          <p:cNvSpPr/>
          <p:nvPr/>
        </p:nvSpPr>
        <p:spPr>
          <a:xfrm>
            <a:off x="0" y="0"/>
            <a:ext cx="8280360" cy="4138560"/>
          </a:xfrm>
          <a:prstGeom prst="rect">
            <a:avLst/>
          </a:prstGeom>
          <a:solidFill>
            <a:srgbClr val="1622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3857760"/>
            <a:ext cx="8294760" cy="28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392040" y="430200"/>
            <a:ext cx="506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alibri"/>
              </a:rPr>
              <a:t>Pro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392040" y="849240"/>
            <a:ext cx="50688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Lorem ipsum dolor sit amet, consectetur adipiscing eli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Donec laoreet leo maximus sodales volutpa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Proin euismod massa sit amet sagittis efficitur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Aenean sit amet quam commodo, facilisis lectus eget, pellentesque mauri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Donec laoreet leo maximus sodales volutpa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Proin euismod massa sit amet sagittis efficitur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392040" y="3065400"/>
            <a:ext cx="506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Yer: </a:t>
            </a: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Ege Üniversitesi Kampüsü, Bornova/İZMİR</a:t>
            </a:r>
            <a:br>
              <a:rPr sz="1000"/>
            </a:b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Tarih: </a:t>
            </a: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00 Haziran 2018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Saat: </a:t>
            </a: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20.3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9" descr=""/>
          <p:cNvPicPr/>
          <p:nvPr/>
        </p:nvPicPr>
        <p:blipFill>
          <a:blip r:embed="rId1"/>
          <a:stretch/>
        </p:blipFill>
        <p:spPr>
          <a:xfrm>
            <a:off x="2200320" y="1854360"/>
            <a:ext cx="60879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2T06:11:59Z</dcterms:created>
  <dc:creator>Microsoft Office User</dc:creator>
  <dc:description/>
  <dc:language>en-US</dc:language>
  <cp:lastModifiedBy>Microsoft Office User</cp:lastModifiedBy>
  <dcterms:modified xsi:type="dcterms:W3CDTF">2018-04-02T06:36:08Z</dcterms:modified>
  <cp:revision>4</cp:revision>
  <dc:subject/>
  <dc:title>PowerPoint Presentation</dc:title>
</cp:coreProperties>
</file>